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4005-D471-40BC-951E-1676500A04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8DF5-E8DC-412D-AD4F-94B28FF45D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2188-0AD6-4DFD-BB18-27E8D191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76E7-C1D8-43AE-AF60-9F64FA45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082-1803-4006-9A0E-A24534B9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A6E4-FB52-4CF1-8183-29024018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9D4-9CE7-4622-992E-C0D3DEA4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8526-8B12-4CF5-B7CD-150DE1B5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818-F45A-4659-98D8-FEA47871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6DCC-B4D7-4D33-8FD7-6FB6E4AD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4F0-BBAB-4437-ACDE-75F0BB86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3E46-EE89-47A7-A7DD-D18DFDE9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99F4-B28A-496E-A2F2-A222E93C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F7AC-FB55-4EFD-AE81-E8D36EA6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5240-341D-4F52-A64C-53E82629A1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00720" y="5428800"/>
            <a:ext cx="46432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564000" y="4724280"/>
            <a:ext cx="55656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ої судової адміністрації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новій Холодню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Группа 6"/>
          <p:cNvGrpSpPr/>
          <p:nvPr/>
        </p:nvGrpSpPr>
        <p:grpSpPr>
          <a:xfrm>
            <a:off x="0" y="214200"/>
            <a:ext cx="9144000" cy="4870440"/>
            <a:chOff x="0" y="214200"/>
            <a:chExt cx="9144000" cy="4870440"/>
          </a:xfrm>
        </p:grpSpPr>
        <p:sp>
          <p:nvSpPr>
            <p:cNvPr id="51" name="Прямоугольник 4"/>
            <p:cNvSpPr/>
            <p:nvPr/>
          </p:nvSpPr>
          <p:spPr>
            <a:xfrm>
              <a:off x="0" y="2313000"/>
              <a:ext cx="9144000" cy="2771640"/>
            </a:xfrm>
            <a:prstGeom prst="rect">
              <a:avLst/>
            </a:prstGeom>
            <a:solidFill>
              <a:srgbClr val="092991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900" spc="-1" strike="noStrike">
                  <a:solidFill>
                    <a:srgbClr val="ffffff"/>
                  </a:solidFill>
                  <a:latin typeface="Garamond"/>
                </a:rPr>
                <a:t>Державна судова адміністрація України</a:t>
              </a:r>
              <a:endParaRPr b="0" lang="en-US" sz="5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2" descr=""/>
            <p:cNvPicPr/>
            <p:nvPr/>
          </p:nvPicPr>
          <p:blipFill>
            <a:blip r:embed="rId1"/>
            <a:stretch/>
          </p:blipFill>
          <p:spPr>
            <a:xfrm>
              <a:off x="3857760" y="214200"/>
              <a:ext cx="1307880" cy="18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DC05-0566-4913-9788-EED3A1B83B5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3"/>
          <p:cNvSpPr/>
          <p:nvPr/>
        </p:nvSpPr>
        <p:spPr>
          <a:xfrm>
            <a:off x="8748720" y="6492960"/>
            <a:ext cx="39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4CD1-9A26-40CC-B623-4C74D6C2F1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Диаграмма 4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07400" cy="66452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1057680" y="318960"/>
            <a:ext cx="72414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ередня фактична суддівська винагорода та заробітна пл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ацівників апаратів судів за 2014 рі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471960" y="141300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498600" y="5300640"/>
            <a:ext cx="266364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ьо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уддя           18 682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Працівни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апарату суду  3 729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Диаграмма 1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"/>
          <p:cNvSpPr/>
          <p:nvPr/>
        </p:nvSpPr>
        <p:spPr>
          <a:xfrm>
            <a:off x="1560600" y="252360"/>
            <a:ext cx="5828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і призначе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урахуванням понадпланових надходжень (без АР Крим, м. Севастополя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254520" y="10843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1479600" y="29829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7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2990880" y="181944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4481640" y="16509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24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5871600" y="146052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68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7386840" y="210348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68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1275480" y="1139760"/>
            <a:ext cx="53578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ріст / </a:t>
            </a: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меншення</a:t>
            </a:r>
            <a:r>
              <a:rPr b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до попереднього року, млн грн / 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2153160" y="2271600"/>
            <a:ext cx="584640" cy="733320"/>
          </a:xfrm>
          <a:prstGeom prst="rect">
            <a:avLst/>
          </a:prstGeom>
          <a:solidFill>
            <a:srgbClr val="dce6f2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27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2162160" y="3166920"/>
            <a:ext cx="647640" cy="7333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2197080" y="4221000"/>
            <a:ext cx="577800" cy="733320"/>
          </a:xfrm>
          <a:prstGeom prst="rect">
            <a:avLst/>
          </a:prstGeom>
          <a:solidFill>
            <a:srgbClr val="c6d9f1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3729240" y="1677960"/>
            <a:ext cx="450360" cy="733320"/>
          </a:xfrm>
          <a:prstGeom prst="rect">
            <a:avLst/>
          </a:prstGeom>
          <a:solidFill>
            <a:srgbClr val="dce6f2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5"/>
          <p:cNvSpPr/>
          <p:nvPr/>
        </p:nvSpPr>
        <p:spPr>
          <a:xfrm>
            <a:off x="3692160" y="2612880"/>
            <a:ext cx="538920" cy="733320"/>
          </a:xfrm>
          <a:prstGeom prst="rect">
            <a:avLst/>
          </a:prstGeom>
          <a:solidFill>
            <a:srgbClr val="fdeada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22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6"/>
          <p:cNvSpPr/>
          <p:nvPr/>
        </p:nvSpPr>
        <p:spPr>
          <a:xfrm>
            <a:off x="3700800" y="4005360"/>
            <a:ext cx="538920" cy="733320"/>
          </a:xfrm>
          <a:prstGeom prst="rect">
            <a:avLst/>
          </a:prstGeom>
          <a:solidFill>
            <a:srgbClr val="dbeef4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7"/>
          <p:cNvSpPr/>
          <p:nvPr/>
        </p:nvSpPr>
        <p:spPr>
          <a:xfrm>
            <a:off x="5180400" y="1650960"/>
            <a:ext cx="538920" cy="733320"/>
          </a:xfrm>
          <a:prstGeom prst="rect">
            <a:avLst/>
          </a:prstGeom>
          <a:solidFill>
            <a:srgbClr val="dce6f2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5222880" y="3716280"/>
            <a:ext cx="493560" cy="733320"/>
          </a:xfrm>
          <a:prstGeom prst="rect">
            <a:avLst/>
          </a:prstGeom>
          <a:solidFill>
            <a:srgbClr val="dbeef4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20"/>
          <p:cNvSpPr/>
          <p:nvPr/>
        </p:nvSpPr>
        <p:spPr>
          <a:xfrm>
            <a:off x="6647040" y="1604880"/>
            <a:ext cx="650520" cy="733320"/>
          </a:xfrm>
          <a:prstGeom prst="rect">
            <a:avLst/>
          </a:prstGeom>
          <a:solidFill>
            <a:srgbClr val="dce6f2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99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%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6649560" y="2570040"/>
            <a:ext cx="538920" cy="733320"/>
          </a:xfrm>
          <a:prstGeom prst="rect">
            <a:avLst/>
          </a:prstGeom>
          <a:solidFill>
            <a:srgbClr val="fdeada"/>
          </a:solidFill>
          <a:ln w="1260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38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22"/>
          <p:cNvSpPr/>
          <p:nvPr/>
        </p:nvSpPr>
        <p:spPr>
          <a:xfrm>
            <a:off x="6664680" y="3549600"/>
            <a:ext cx="538920" cy="733320"/>
          </a:xfrm>
          <a:prstGeom prst="rect">
            <a:avLst/>
          </a:prstGeom>
          <a:solidFill>
            <a:srgbClr val="dbeef4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6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3"/>
          <p:cNvSpPr/>
          <p:nvPr/>
        </p:nvSpPr>
        <p:spPr>
          <a:xfrm>
            <a:off x="8783640" y="6597720"/>
            <a:ext cx="36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46C1-7BAC-4DB8-8D23-5670B4EDAFA3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179280" y="101520"/>
            <a:ext cx="8863200" cy="58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bc0e12"/>
                </a:solidFill>
                <a:latin typeface="Times New Roman"/>
                <a:ea typeface="Times New Roman"/>
              </a:rPr>
              <a:t>Перерозподіл та додаткові призначення у 2015 роц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bc0e12"/>
                </a:solidFill>
                <a:latin typeface="Times New Roman"/>
                <a:ea typeface="Times New Roman"/>
              </a:rPr>
              <a:t>(Зміни до Закону України </a:t>
            </a:r>
            <a:r>
              <a:rPr b="1" i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Про Державний бюджет України на 2015 рік"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14200" y="1357200"/>
          <a:ext cx="4572000" cy="5286600"/>
        </p:xfrm>
        <a:graphic>
          <a:graphicData uri="http://schemas.openxmlformats.org/drawingml/2006/table">
            <a:tbl>
              <a:tblPr/>
              <a:tblGrid>
                <a:gridCol w="1798920"/>
                <a:gridCol w="1353960"/>
                <a:gridCol w="1419120"/>
              </a:tblGrid>
              <a:tr h="677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атки спожи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атки розвит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65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ь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4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5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сцеві загальн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bc0e12"/>
                          </a:solidFill>
                          <a:latin typeface="Times New Roman"/>
                          <a:ea typeface="Times New Roman"/>
                        </a:rPr>
                        <a:t>-2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66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еляційні загаль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bc0e12"/>
                          </a:solidFill>
                          <a:latin typeface="Times New Roman"/>
                          <a:ea typeface="Times New Roman"/>
                        </a:rPr>
                        <a:t>-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68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еляційні господарськ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bc0e12"/>
                          </a:solidFill>
                          <a:latin typeface="Times New Roman"/>
                          <a:ea typeface="Times New Roman"/>
                        </a:rPr>
                        <a:t>-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66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еляційні адміністратив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bc0e12"/>
                          </a:solidFill>
                          <a:latin typeface="Times New Roman"/>
                          <a:ea typeface="Times New Roman"/>
                        </a:rPr>
                        <a:t>-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74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одарськ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bc0e12"/>
                          </a:solidFill>
                          <a:latin typeface="Times New Roman"/>
                          <a:ea typeface="Times New Roman"/>
                        </a:rPr>
                        <a:t>-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744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сцеві адміністратив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bc0e12"/>
                          </a:solidFill>
                          <a:latin typeface="Times New Roman"/>
                          <a:ea typeface="Times New Roman"/>
                        </a:rPr>
                        <a:t>-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67" name="TextBox 14"/>
          <p:cNvSpPr/>
          <p:nvPr/>
        </p:nvSpPr>
        <p:spPr>
          <a:xfrm>
            <a:off x="796320" y="785880"/>
            <a:ext cx="323316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ерозподіл для погашення кредиторсько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боргованост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4075920" y="107172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5485320" y="814320"/>
            <a:ext cx="294372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даткові капітальні видатки для суд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нецької та Луганської обл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Диаграмма 9" descr=""/>
          <p:cNvPicPr/>
          <p:nvPr/>
        </p:nvPicPr>
        <p:blipFill>
          <a:blip r:embed="rId1"/>
          <a:stretch/>
        </p:blipFill>
        <p:spPr>
          <a:xfrm>
            <a:off x="4883040" y="1335240"/>
            <a:ext cx="4168800" cy="53467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7"/>
          <p:cNvSpPr/>
          <p:nvPr/>
        </p:nvSpPr>
        <p:spPr>
          <a:xfrm>
            <a:off x="6021000" y="3068640"/>
            <a:ext cx="176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0 млн гр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Диаграмма 3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/>
          <p:cNvSpPr/>
          <p:nvPr/>
        </p:nvSpPr>
        <p:spPr>
          <a:xfrm>
            <a:off x="587880" y="393840"/>
            <a:ext cx="8159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ближення бюджетних призначень по оплаті праці з нарахуванн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квітні – липні 2015 ро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2629440" y="194940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02,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3350160" y="193356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03,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7405560" y="256212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24,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8107560" y="3062160"/>
            <a:ext cx="4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3,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4059360" y="559908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яці рок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0"/>
          <p:cNvSpPr/>
          <p:nvPr/>
        </p:nvSpPr>
        <p:spPr>
          <a:xfrm>
            <a:off x="198360" y="104472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1"/>
          <p:cNvSpPr/>
          <p:nvPr/>
        </p:nvSpPr>
        <p:spPr>
          <a:xfrm>
            <a:off x="4651560" y="6000840"/>
            <a:ext cx="23616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льна су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ближення 232,7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4080600" y="162576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40,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2"/>
          <p:cNvSpPr/>
          <p:nvPr/>
        </p:nvSpPr>
        <p:spPr>
          <a:xfrm>
            <a:off x="6752880" y="256212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18,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2"/>
          <p:cNvSpPr/>
          <p:nvPr/>
        </p:nvSpPr>
        <p:spPr>
          <a:xfrm>
            <a:off x="4790160" y="162576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41,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6156720" y="229860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52,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Диаграмма 3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3930480" y="621360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яці ро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256320" y="124920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1157040" y="333360"/>
            <a:ext cx="7175880" cy="70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гнозні надходження судового збору на 2015 рі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наростаючим підсумком на підставі факту за січень-липень 2015 року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Скругленный прямоугольник 7"/>
          <p:cNvSpPr/>
          <p:nvPr/>
        </p:nvSpPr>
        <p:spPr>
          <a:xfrm>
            <a:off x="1979640" y="2421000"/>
            <a:ext cx="16556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лишок на початок року 311 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Скругленный прямоугольник 8"/>
          <p:cNvSpPr/>
          <p:nvPr/>
        </p:nvSpPr>
        <p:spPr>
          <a:xfrm>
            <a:off x="4067280" y="1752480"/>
            <a:ext cx="2160360" cy="1130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ан з урахуванням залишку виконано 22 липня 2015 рок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1" name="Прямая со стрелкой 2"/>
          <p:cNvCxnSpPr/>
          <p:nvPr/>
        </p:nvCxnSpPr>
        <p:spPr>
          <a:xfrm flipH="1">
            <a:off x="5058720" y="2878200"/>
            <a:ext cx="60840" cy="805680"/>
          </a:xfrm>
          <a:prstGeom prst="straightConnector1">
            <a:avLst/>
          </a:prstGeom>
          <a:ln w="44280">
            <a:solidFill>
              <a:srgbClr val="4a7ebb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Диаграмма 3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57216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/>
          <p:cNvSpPr/>
          <p:nvPr/>
        </p:nvSpPr>
        <p:spPr>
          <a:xfrm>
            <a:off x="999360" y="387360"/>
            <a:ext cx="7493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гноз понадпланових надходжень судового збору у 2015 роц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507960" y="6058080"/>
            <a:ext cx="10065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1.01.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83960" y="154620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4217760" y="631980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яці ро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авая фигурная скобка 8"/>
          <p:cNvSpPr/>
          <p:nvPr/>
        </p:nvSpPr>
        <p:spPr>
          <a:xfrm rot="16200000">
            <a:off x="4622760" y="-1652400"/>
            <a:ext cx="350640" cy="7364520"/>
          </a:xfrm>
          <a:custGeom>
            <a:avLst/>
            <a:gdLst>
              <a:gd name="textAreaLeft" fmla="*/ 0 w 350640"/>
              <a:gd name="textAreaRight" fmla="*/ 126720 w 350640"/>
              <a:gd name="textAreaTop" fmla="*/ 9000 h 7364520"/>
              <a:gd name="textAreaBottom" fmla="*/ 7355520 h 736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"/>
                  <a:pt x="10800" y="86"/>
                </a:cubicBezTo>
                <a:lnTo>
                  <a:pt x="10800" y="10714"/>
                </a:lnTo>
                <a:cubicBezTo>
                  <a:pt x="10800" y="10757"/>
                  <a:pt x="16200" y="10800"/>
                  <a:pt x="21600" y="10800"/>
                </a:cubicBezTo>
                <a:cubicBezTo>
                  <a:pt x="16200" y="10800"/>
                  <a:pt x="10800" y="10843"/>
                  <a:pt x="10800" y="10886"/>
                </a:cubicBezTo>
                <a:lnTo>
                  <a:pt x="10800" y="21514"/>
                </a:lnTo>
                <a:cubicBezTo>
                  <a:pt x="10800" y="2155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авая фигурная скобка 9"/>
          <p:cNvSpPr/>
          <p:nvPr/>
        </p:nvSpPr>
        <p:spPr>
          <a:xfrm rot="16200000">
            <a:off x="3309120" y="1634040"/>
            <a:ext cx="476280" cy="4065480"/>
          </a:xfrm>
          <a:custGeom>
            <a:avLst/>
            <a:gdLst>
              <a:gd name="textAreaLeft" fmla="*/ 0 w 476280"/>
              <a:gd name="textAreaRight" fmla="*/ 172080 w 476280"/>
              <a:gd name="textAreaTop" fmla="*/ 12240 h 4065480"/>
              <a:gd name="textAreaBottom" fmla="*/ 4053240 h 406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1"/>
                </a:cubicBezTo>
                <a:lnTo>
                  <a:pt x="10800" y="10589"/>
                </a:lnTo>
                <a:cubicBezTo>
                  <a:pt x="10800" y="10695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1"/>
                </a:cubicBezTo>
                <a:lnTo>
                  <a:pt x="10800" y="21389"/>
                </a:lnTo>
                <a:cubicBezTo>
                  <a:pt x="10800" y="2149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Скругленный прямоугольник 10"/>
          <p:cNvSpPr/>
          <p:nvPr/>
        </p:nvSpPr>
        <p:spPr>
          <a:xfrm>
            <a:off x="2303640" y="2349360"/>
            <a:ext cx="248436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актичні надходження за  7 місяців 2015 рок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23 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Диаграмма 3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327600" y="1825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1771920" y="260280"/>
            <a:ext cx="5981040" cy="76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инаміка фактичної заробітної пла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uk-UA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ацівників апаратів судів у 2014-2015 рок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5940360" y="1101600"/>
            <a:ext cx="273204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ній рівень оплати прац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І півріччя 2014 року  2 229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І півріччя 2015 року  3 254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ріст 1 025 грн або 46,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1380600" y="4471920"/>
            <a:ext cx="49608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0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8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2596680" y="4021200"/>
            <a:ext cx="49608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13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4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3898440" y="4317840"/>
            <a:ext cx="49608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35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2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5222520" y="4021200"/>
            <a:ext cx="46116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1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4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6446520" y="4317840"/>
            <a:ext cx="46116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5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4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7671240" y="4164120"/>
            <a:ext cx="49608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02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8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1122480" y="1671480"/>
            <a:ext cx="3600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ріст до попереднього періоду (грн/%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Диаграмма 3" descr=""/>
          <p:cNvPicPr/>
          <p:nvPr/>
        </p:nvPicPr>
        <p:blipFill>
          <a:blip r:embed="rId1"/>
          <a:stretch/>
        </p:blipFill>
        <p:spPr>
          <a:xfrm>
            <a:off x="219240" y="182520"/>
            <a:ext cx="8802360" cy="64994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398880" y="1690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1135440" y="366840"/>
            <a:ext cx="69685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наміка фактичної заробітної плати працівників апаратів суд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іровоградської області у 2014-2015 ро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6"/>
          <p:cNvSpPr/>
          <p:nvPr/>
        </p:nvSpPr>
        <p:spPr>
          <a:xfrm>
            <a:off x="1694880" y="4724280"/>
            <a:ext cx="46116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6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8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3453840" y="4670280"/>
            <a:ext cx="46116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5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1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5276880" y="4664160"/>
            <a:ext cx="53136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29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6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7106760" y="4670280"/>
            <a:ext cx="46116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0"/>
          <p:cNvSpPr/>
          <p:nvPr/>
        </p:nvSpPr>
        <p:spPr>
          <a:xfrm>
            <a:off x="1412640" y="1700280"/>
            <a:ext cx="3521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ріст до попереднього періоду (грн/%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1"/>
          <p:cNvSpPr/>
          <p:nvPr/>
        </p:nvSpPr>
        <p:spPr>
          <a:xfrm>
            <a:off x="5947200" y="1101600"/>
            <a:ext cx="2593080" cy="9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ровоградська обла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І півріччя 2014 року 2 086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І півріччя 2015 року 3 070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ріст 985 грн або 47,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Группа 3"/>
          <p:cNvGrpSpPr/>
          <p:nvPr/>
        </p:nvGrpSpPr>
        <p:grpSpPr>
          <a:xfrm>
            <a:off x="0" y="285840"/>
            <a:ext cx="9144000" cy="4643280"/>
            <a:chOff x="0" y="285840"/>
            <a:chExt cx="9144000" cy="4643280"/>
          </a:xfrm>
        </p:grpSpPr>
        <p:sp>
          <p:nvSpPr>
            <p:cNvPr id="221" name="Прямоугольник 4"/>
            <p:cNvSpPr/>
            <p:nvPr/>
          </p:nvSpPr>
          <p:spPr>
            <a:xfrm>
              <a:off x="0" y="2571840"/>
              <a:ext cx="9144000" cy="2357280"/>
            </a:xfrm>
            <a:prstGeom prst="rect">
              <a:avLst/>
            </a:prstGeom>
            <a:solidFill>
              <a:srgbClr val="092991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900" spc="-1" strike="noStrike">
                  <a:solidFill>
                    <a:srgbClr val="ffffff"/>
                  </a:solidFill>
                  <a:latin typeface="Garamond"/>
                </a:rPr>
                <a:t>Дякую за увагу!</a:t>
              </a:r>
              <a:endParaRPr b="0" lang="en-US" sz="7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2" name="Picture 2" descr=""/>
            <p:cNvPicPr/>
            <p:nvPr/>
          </p:nvPicPr>
          <p:blipFill>
            <a:blip r:embed="rId1"/>
            <a:stretch/>
          </p:blipFill>
          <p:spPr>
            <a:xfrm>
              <a:off x="3857760" y="285840"/>
              <a:ext cx="1307880" cy="181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Диаграмма 3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185760" y="14130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 одиниць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594360" y="333360"/>
            <a:ext cx="812520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инаміка кількості справ та матеріалів, що знаходилися на розгляд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 судах у 2013 – 2014 рока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(</a:t>
            </a:r>
            <a:r>
              <a:rPr b="0" i="1" lang="uk-UA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ез урахування даних АР Крим, м. Севастополя</a:t>
            </a:r>
            <a:r>
              <a:rPr b="0" lang="uk-UA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4356000" y="1781280"/>
            <a:ext cx="42879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меншення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uk-U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більшення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попереднього року, (%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132000" y="2349360"/>
            <a:ext cx="3961080" cy="131076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а кількіст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2013 рік     5 742 тис. одиниц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014 рік     4 264 тис. одиниц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хилення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1 478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 одиниць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меншення до попереднього року на </a:t>
            </a:r>
            <a:r>
              <a:rPr b="1" i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,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1696680" y="1722600"/>
            <a:ext cx="6548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1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2804040" y="4556160"/>
            <a:ext cx="6548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11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4067280" y="4710240"/>
            <a:ext cx="7207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1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5513040" y="4556160"/>
            <a:ext cx="6548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7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6585840" y="4797360"/>
            <a:ext cx="601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+2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7889040" y="4878360"/>
            <a:ext cx="5526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8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Диаграмма 3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162000" y="1197000"/>
            <a:ext cx="1128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антаженн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суддю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643320" y="438120"/>
            <a:ext cx="797004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инаміка навантаження на 1 суддю за 2013 та 2014 ро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6334200" y="1751040"/>
            <a:ext cx="231444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ідвищення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иження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опереднього року, (%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312200" y="1773360"/>
            <a:ext cx="3315600" cy="149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ній рівен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антаження на 1 суддю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2013 рік  697 справ та матеріалі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2014 рік  553 справи та матеріалі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хилення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144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и та матеріалі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иження до попереднього року </a:t>
            </a:r>
            <a:r>
              <a:rPr b="1" i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,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1480320" y="4149720"/>
            <a:ext cx="5526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5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2704680" y="4719600"/>
            <a:ext cx="6548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1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4048920" y="4653000"/>
            <a:ext cx="5526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5584320" y="2527200"/>
            <a:ext cx="6548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7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6520680" y="4645080"/>
            <a:ext cx="601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+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7744320" y="4719600"/>
            <a:ext cx="5526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3"/>
          <p:cNvSpPr/>
          <p:nvPr/>
        </p:nvSpPr>
        <p:spPr>
          <a:xfrm>
            <a:off x="8886960" y="6458040"/>
            <a:ext cx="22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5990-5DBD-4549-B814-7C450C2EC7B3}" type="slidenum">
              <a:rPr b="1" lang="ru-RU" sz="12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Диаграмма 5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661600" cy="6499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2202120" y="14842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571,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6670800" y="16732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23,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395280" y="333360"/>
            <a:ext cx="842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наміка бюджетних призначень судової системи Украї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о до змін до Закону України "Про Державний бюджет України на 2014 рік"</a:t>
            </a: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 урахуванням АР Крим, м.</a:t>
            </a:r>
            <a:r>
              <a:rPr b="0" i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астополя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353160" y="141300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4763520" y="1355760"/>
            <a:ext cx="38016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меншення до попередньої редакції,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3351240" y="168912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18,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3402360" y="22510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5,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5795280" y="1754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9,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5821200" y="25909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5795280" y="412416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9,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3"/>
          <p:cNvSpPr/>
          <p:nvPr/>
        </p:nvSpPr>
        <p:spPr>
          <a:xfrm>
            <a:off x="8916840" y="6492960"/>
            <a:ext cx="22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3BAA-1E2E-4AC4-9FC7-85CAE12438CB}" type="slidenum">
              <a:rPr b="1" lang="ru-RU" sz="12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Диаграмма 7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588520" cy="6499440"/>
          </a:xfrm>
          <a:prstGeom prst="rect">
            <a:avLst/>
          </a:prstGeom>
          <a:ln w="0">
            <a:noFill/>
          </a:ln>
        </p:spPr>
      </p:pic>
      <p:pic>
        <p:nvPicPr>
          <p:cNvPr id="90" name="Диаграмма 9" descr=""/>
          <p:cNvPicPr/>
          <p:nvPr/>
        </p:nvPicPr>
        <p:blipFill>
          <a:blip r:embed="rId2"/>
          <a:stretch/>
        </p:blipFill>
        <p:spPr>
          <a:xfrm>
            <a:off x="4425840" y="2998800"/>
            <a:ext cx="4394160" cy="3457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>
            <a:off x="5076720" y="255600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и та ТУ ДСА Україн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кової частини Украї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913320" y="141300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ий бюджет Украї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753480" y="333360"/>
            <a:ext cx="7462440" cy="825120"/>
          </a:xfrm>
          <a:prstGeom prst="rect">
            <a:avLst/>
          </a:prstGeom>
          <a:solidFill>
            <a:srgbClr val="ffffff"/>
          </a:solidFill>
          <a:ln w="19080">
            <a:solidFill>
              <a:srgbClr val="392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92ffd"/>
                </a:solidFill>
                <a:latin typeface="Times New Roman"/>
                <a:ea typeface="Times New Roman"/>
              </a:rPr>
              <a:t>Зменшення видатків Державного бюджету України у 2014 роц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ідповідно до змін до Закону України "Про Державний бюджет України на 2014 рік"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додаток 3 до Закону )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3"/>
          <p:cNvSpPr/>
          <p:nvPr/>
        </p:nvSpPr>
        <p:spPr>
          <a:xfrm>
            <a:off x="8856720" y="6492960"/>
            <a:ext cx="29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7183-3F61-4642-BED9-2F5C38739D62}" type="slidenum">
              <a:rPr b="1" lang="ru-RU" sz="12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Диаграмма 4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407520" y="1908000"/>
            <a:ext cx="6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1025640" y="317520"/>
            <a:ext cx="7346520" cy="1008360"/>
          </a:xfrm>
          <a:prstGeom prst="rect">
            <a:avLst/>
          </a:prstGeom>
          <a:solidFill>
            <a:srgbClr val="fdeada"/>
          </a:solidFill>
          <a:ln w="190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меншення бюджетних призначень судової систе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ідповідно до змін до Закону Украї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r>
              <a:rPr b="1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r>
              <a:rPr b="1" i="1" lang="uk-UA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Про Державний бюджет України на 2014 рік</a:t>
            </a:r>
            <a:r>
              <a:rPr b="1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2758320" y="177156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8,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6014160" y="4361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,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4145400" y="17226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4201920" y="39211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89,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7314120" y="43084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7288920" y="512748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2,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7299000" y="46911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87,2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5152680" y="1521000"/>
            <a:ext cx="3696480" cy="10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ього з початку року 247,9 млн грн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ни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атерикова частина України  48,9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Р Крим, м. Севастополь 199,0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Шестиугольник 20"/>
          <p:cNvSpPr/>
          <p:nvPr/>
        </p:nvSpPr>
        <p:spPr>
          <a:xfrm>
            <a:off x="1222200" y="1521000"/>
            <a:ext cx="1570320" cy="457200"/>
          </a:xfrm>
          <a:prstGeom prst="hexagon">
            <a:avLst>
              <a:gd name="adj" fmla="val 25028"/>
              <a:gd name="vf" fmla="val 11547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позиція Мінфіну на скорочення видатків</a:t>
            </a:r>
            <a:r>
              <a:rPr b="1" lang="uk-UA" sz="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220 </a:t>
            </a:r>
            <a:r>
              <a:rPr b="1" lang="uk-UA" sz="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лн гр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Шестиугольник 21"/>
          <p:cNvSpPr/>
          <p:nvPr/>
        </p:nvSpPr>
        <p:spPr>
          <a:xfrm>
            <a:off x="6443640" y="3573360"/>
            <a:ext cx="1935360" cy="532080"/>
          </a:xfrm>
          <a:prstGeom prst="hexagon">
            <a:avLst>
              <a:gd name="adj" fmla="val 25057"/>
              <a:gd name="vf" fmla="val 11547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СА України, як головного розпорядника бюджетних коштів, до розробки проекту закону  не залучалас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3"/>
          <p:cNvSpPr/>
          <p:nvPr/>
        </p:nvSpPr>
        <p:spPr>
          <a:xfrm>
            <a:off x="8774280" y="649296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86BE-3C87-46AB-A129-051644CD8686}" type="slidenum">
              <a:rPr b="1" lang="ru-RU" sz="12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Диаграмма 4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07400" cy="64245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39640" y="5157720"/>
            <a:ext cx="50403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ьо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ільшення асигнувань            46 387,0 тис. гр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еншення асигнуван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пеляційні адміністративні суди)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387,0 тис. грн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3"/>
          <p:cNvSpPr/>
          <p:nvPr/>
        </p:nvSpPr>
        <p:spPr>
          <a:xfrm>
            <a:off x="8748720" y="6597720"/>
            <a:ext cx="395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2C1E-EC28-45AC-B3D3-2BC2F8B55A50}" type="slidenum">
              <a:rPr b="1" lang="ru-RU" sz="12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Диаграмма 4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/>
          <p:cNvSpPr/>
          <p:nvPr/>
        </p:nvSpPr>
        <p:spPr>
          <a:xfrm>
            <a:off x="1238760" y="260280"/>
            <a:ext cx="7174440" cy="94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ові видатки спецфонду з урахуванн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надпланових надходжень за 2014 рі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58840" y="129852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547640" y="1317600"/>
            <a:ext cx="604872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ріст призначень за рахунок понадпланових надходжень, 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6146640" y="2055960"/>
            <a:ext cx="2808360" cy="930960"/>
          </a:xfrm>
          <a:prstGeom prst="rect">
            <a:avLst/>
          </a:prstGeom>
          <a:solidFill>
            <a:srgbClr val="ffffff"/>
          </a:solidFill>
          <a:ln w="190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м спеціальний фонд 1292,7 млн  грн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- Призначення                     889,2 млн гр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Понадпланові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1" lang="uk-UA" sz="1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дходження                     403,5 млн гр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ріст                               45,4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1767240" y="1685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3,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7226640" y="43657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4,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2671560" y="2925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4575600" y="25653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,6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3"/>
          <p:cNvSpPr/>
          <p:nvPr/>
        </p:nvSpPr>
        <p:spPr>
          <a:xfrm>
            <a:off x="8772480" y="6597720"/>
            <a:ext cx="3603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0888-D5B3-43FA-A02A-5BCFDB77702E}" type="slidenum">
              <a:rPr b="0" lang="ru-RU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Диаграмма 4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75800" cy="65725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398880" y="119700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1059480" y="114480"/>
            <a:ext cx="676152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392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92ffd"/>
                </a:solidFill>
                <a:latin typeface="Times New Roman"/>
                <a:ea typeface="Times New Roman"/>
              </a:rPr>
              <a:t>Приріст середньої заробітної плати працівників апаратів суді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92ffd"/>
                </a:solidFill>
                <a:latin typeface="Times New Roman"/>
                <a:ea typeface="Times New Roman"/>
              </a:rPr>
              <a:t>судової системи України (без АР Крим, м. Севастопол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92ffd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392ffd"/>
                </a:solidFill>
                <a:latin typeface="Times New Roman"/>
                <a:ea typeface="Times New Roman"/>
              </a:rPr>
              <a:t>у 2014 роц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1405440" y="174312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8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629440" y="142416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14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3853440" y="189720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150520" y="150984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6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6337800" y="150336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7598520" y="167004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89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2246400" y="1036800"/>
            <a:ext cx="49179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392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на середня заробітна плата працівника апарату суду за 2014 рік - 3 729 грн, </a:t>
            </a:r>
            <a:r>
              <a:rPr b="1" lang="uk-UA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иріст до встановленої законом - 1 121 грн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бо </a:t>
            </a:r>
            <a:r>
              <a:rPr b="1" lang="uk-UA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3%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1910520" y="226836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3,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5"/>
          <p:cNvSpPr/>
          <p:nvPr/>
        </p:nvSpPr>
        <p:spPr>
          <a:xfrm>
            <a:off x="3177360" y="189720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4,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4434120" y="257004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6,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7"/>
          <p:cNvSpPr/>
          <p:nvPr/>
        </p:nvSpPr>
        <p:spPr>
          <a:xfrm>
            <a:off x="6899400" y="189720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8,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8"/>
          <p:cNvSpPr/>
          <p:nvPr/>
        </p:nvSpPr>
        <p:spPr>
          <a:xfrm>
            <a:off x="8176680" y="257004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78,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9"/>
          <p:cNvSpPr/>
          <p:nvPr/>
        </p:nvSpPr>
        <p:spPr>
          <a:xfrm>
            <a:off x="7622640" y="1292400"/>
            <a:ext cx="11026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иріст, 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6570720" y="6199200"/>
            <a:ext cx="26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5T12:16:33Z</dcterms:created>
  <dc:creator>chekryzheva</dc:creator>
  <dc:description/>
  <dc:language>en-US</dc:language>
  <cp:lastModifiedBy>ignatchenko</cp:lastModifiedBy>
  <cp:lastPrinted>2015-03-27T13:46:02Z</cp:lastPrinted>
  <dcterms:modified xsi:type="dcterms:W3CDTF">2015-08-17T14:27:51Z</dcterms:modified>
  <cp:revision>224</cp:revision>
  <dc:subject/>
  <dc:title>Презентация PowerPoint</dc:title>
</cp:coreProperties>
</file>