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1A2-4A0C-4C97-A5EA-664956F86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98E2-C269-4F55-89E4-B1DF66530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96D-689C-4E18-80E8-00E7FA1E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E90-B7BC-4432-963D-5D25481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82E-7ADA-4DA3-8AAE-AF4F9DC1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EB0-E7C9-4CCA-B56F-0416A3C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9E5-2FC6-405D-A388-A2E76A7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D27-2E8C-4DBF-BE94-A8AE790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34C-80F8-426B-B8DE-59ABA77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846-8E56-4CAF-BE93-A5D74F5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E7F-137F-4AEC-8D03-F0FEB615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27F-C130-4F31-813D-64393BF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821-D82C-448D-BC85-4F58E614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6EC-259A-41F7-AFA3-EF45F186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C679-7B01-4F24-BAE5-673D4CF5A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4AB-8777-49AE-93B0-42913CE7B4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8748720" y="6492960"/>
            <a:ext cx="39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868-A042-4FA8-9849-07D1C77B9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6452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057680" y="318960"/>
            <a:ext cx="7241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едня фактична суддівська винагорода та заробітна пл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за 2014 рі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71960" y="1413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98600" y="5300640"/>
            <a:ext cx="266364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уддя           18 682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Праців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апарату суду  3 729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1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560600" y="252360"/>
            <a:ext cx="5828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урахуванням понадпланових надходжень (без АР Крим, м. 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4520" y="10843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479600" y="2982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7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990880" y="1819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481640" y="1650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871600" y="1460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6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386840" y="21034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6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75480" y="1139760"/>
            <a:ext cx="53578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/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до попереднього року, млн грн /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153160" y="2271600"/>
            <a:ext cx="58464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162160" y="3166920"/>
            <a:ext cx="647640" cy="7333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2197080" y="4221000"/>
            <a:ext cx="577800" cy="733320"/>
          </a:xfrm>
          <a:prstGeom prst="rect">
            <a:avLst/>
          </a:prstGeom>
          <a:solidFill>
            <a:srgbClr val="c6d9f1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3729240" y="1677960"/>
            <a:ext cx="450360" cy="733320"/>
          </a:xfrm>
          <a:prstGeom prst="rect">
            <a:avLst/>
          </a:prstGeom>
          <a:solidFill>
            <a:srgbClr val="dce6f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92160" y="2612880"/>
            <a:ext cx="538920" cy="733320"/>
          </a:xfrm>
          <a:prstGeom prst="rect">
            <a:avLst/>
          </a:prstGeom>
          <a:solidFill>
            <a:srgbClr val="fdeada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3700800" y="4005360"/>
            <a:ext cx="53892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5180400" y="1650960"/>
            <a:ext cx="5389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222880" y="3716280"/>
            <a:ext cx="49356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6647040" y="1604880"/>
            <a:ext cx="6505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99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%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649560" y="2570040"/>
            <a:ext cx="538920" cy="733320"/>
          </a:xfrm>
          <a:prstGeom prst="rect">
            <a:avLst/>
          </a:prstGeom>
          <a:solidFill>
            <a:srgbClr val="fdeada"/>
          </a:solidFill>
          <a:ln w="1260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38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6664680" y="3549600"/>
            <a:ext cx="538920" cy="733320"/>
          </a:xfrm>
          <a:prstGeom prst="rect">
            <a:avLst/>
          </a:prstGeom>
          <a:solidFill>
            <a:srgbClr val="dbeef4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6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3"/>
          <p:cNvSpPr/>
          <p:nvPr/>
        </p:nvSpPr>
        <p:spPr>
          <a:xfrm>
            <a:off x="8783640" y="65977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0E5-A736-45C5-A6BC-7D289D068B6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79280" y="101520"/>
            <a:ext cx="88632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Перерозподіл та додаткові призначення у 2015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(Зміни до Закону України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ро Державний бюджет України на 2015 рік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4200" y="1357200"/>
          <a:ext cx="4572000" cy="5286600"/>
        </p:xfrm>
        <a:graphic>
          <a:graphicData uri="http://schemas.openxmlformats.org/drawingml/2006/table">
            <a:tbl>
              <a:tblPr/>
              <a:tblGrid>
                <a:gridCol w="1798920"/>
                <a:gridCol w="1353960"/>
                <a:gridCol w="1419120"/>
              </a:tblGrid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розви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5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загальн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загаль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господарськ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арськ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14"/>
          <p:cNvSpPr/>
          <p:nvPr/>
        </p:nvSpPr>
        <p:spPr>
          <a:xfrm>
            <a:off x="796320" y="785880"/>
            <a:ext cx="32331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розподіл для погашення кредиторськ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боргованос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075920" y="1071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5485320" y="814320"/>
            <a:ext cx="2943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даткові капітальні видатки для суд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нецької та Луганської об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Диаграмма 9" descr=""/>
          <p:cNvPicPr/>
          <p:nvPr/>
        </p:nvPicPr>
        <p:blipFill>
          <a:blip r:embed="rId1"/>
          <a:stretch/>
        </p:blipFill>
        <p:spPr>
          <a:xfrm>
            <a:off x="4883040" y="1335240"/>
            <a:ext cx="4168800" cy="5346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6021000" y="3068640"/>
            <a:ext cx="176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0 млн гр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587880" y="393840"/>
            <a:ext cx="8159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бюджетних призначень по оплаті праці з нарахуванн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вітні – липні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629440" y="19494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2,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350160" y="19335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3,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40556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4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8107560" y="306216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3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4059360" y="55990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198360" y="104472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4651560" y="6000840"/>
            <a:ext cx="236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а су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232,7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408060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0,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675288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479016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1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6156720" y="2298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2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3930480" y="62136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56320" y="1249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157040" y="333360"/>
            <a:ext cx="7175880" cy="70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ні надходження судового збору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наростаючим підсумком на підставі факту за січень-липень 2015 рок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7"/>
          <p:cNvSpPr/>
          <p:nvPr/>
        </p:nvSpPr>
        <p:spPr>
          <a:xfrm>
            <a:off x="1979640" y="2421000"/>
            <a:ext cx="1655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лишок на початок року 311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8"/>
          <p:cNvSpPr/>
          <p:nvPr/>
        </p:nvSpPr>
        <p:spPr>
          <a:xfrm>
            <a:off x="4067280" y="1752480"/>
            <a:ext cx="2160360" cy="113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 з урахуванням залишку виконано 22 липня 2015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Прямая со стрелкой 2"/>
          <p:cNvCxnSpPr/>
          <p:nvPr/>
        </p:nvCxnSpPr>
        <p:spPr>
          <a:xfrm flipH="1">
            <a:off x="5058720" y="2878200"/>
            <a:ext cx="60840" cy="805680"/>
          </a:xfrm>
          <a:prstGeom prst="straightConnector1">
            <a:avLst/>
          </a:prstGeom>
          <a:ln w="44280">
            <a:solidFill>
              <a:srgbClr val="4a7ebb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5721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999360" y="387360"/>
            <a:ext cx="7493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 понадпланових надходжень судового збору у 2015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07960" y="6058080"/>
            <a:ext cx="10065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.01.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83960" y="1546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217760" y="6319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авая фигурная скобка 8"/>
          <p:cNvSpPr/>
          <p:nvPr/>
        </p:nvSpPr>
        <p:spPr>
          <a:xfrm rot="16200000">
            <a:off x="4622760" y="-1652400"/>
            <a:ext cx="350640" cy="736452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7364520"/>
              <a:gd name="textAreaBottom" fmla="*/ 7355520 h 736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6"/>
                </a:cubicBezTo>
                <a:lnTo>
                  <a:pt x="10800" y="10714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6"/>
                </a:cubicBezTo>
                <a:lnTo>
                  <a:pt x="10800" y="21514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авая фигурная скобка 9"/>
          <p:cNvSpPr/>
          <p:nvPr/>
        </p:nvSpPr>
        <p:spPr>
          <a:xfrm rot="16200000">
            <a:off x="3309120" y="1634040"/>
            <a:ext cx="476280" cy="4065480"/>
          </a:xfrm>
          <a:custGeom>
            <a:avLst/>
            <a:gdLst>
              <a:gd name="textAreaLeft" fmla="*/ 0 w 476280"/>
              <a:gd name="textAreaRight" fmla="*/ 172080 w 476280"/>
              <a:gd name="textAreaTop" fmla="*/ 12240 h 4065480"/>
              <a:gd name="textAreaBottom" fmla="*/ 4053240 h 406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10"/>
          <p:cNvSpPr/>
          <p:nvPr/>
        </p:nvSpPr>
        <p:spPr>
          <a:xfrm>
            <a:off x="2303640" y="2349360"/>
            <a:ext cx="24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ктичні надходження за  7 місяців 2015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23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327600" y="1825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1771920" y="260280"/>
            <a:ext cx="5981040" cy="76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наміка фактичної заробітної пл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у 2014-2015 р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5940360" y="1101600"/>
            <a:ext cx="27320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 оплати прац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півріччя 2014 року  2 229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І півріччя 2015 року  3 254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1 025 грн або 46,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1380600" y="44719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596680" y="402120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13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3898440" y="431784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35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5222520" y="402120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6446520" y="431784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5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671240" y="41641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1122480" y="1671480"/>
            <a:ext cx="3600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Диаграмма 3" descr=""/>
          <p:cNvPicPr/>
          <p:nvPr/>
        </p:nvPicPr>
        <p:blipFill>
          <a:blip r:embed="rId1"/>
          <a:stretch/>
        </p:blipFill>
        <p:spPr>
          <a:xfrm>
            <a:off x="219240" y="182520"/>
            <a:ext cx="8802360" cy="64994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98880" y="1690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135440" y="366840"/>
            <a:ext cx="69685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фактичної заробітної плати працівників апаратів суд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іровоградської області у 2014-2015 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1694880" y="4724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453840" y="4670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1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276880" y="4664160"/>
            <a:ext cx="5313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29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6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7106760" y="4670280"/>
            <a:ext cx="4611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1412640" y="1700280"/>
            <a:ext cx="3521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947200" y="1101600"/>
            <a:ext cx="25930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ровоградська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півріччя 2014 року 2 086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І півріччя 2015 року 3 070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985 грн або 47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Группа 3"/>
          <p:cNvGrpSpPr/>
          <p:nvPr/>
        </p:nvGrpSpPr>
        <p:grpSpPr>
          <a:xfrm>
            <a:off x="0" y="285840"/>
            <a:ext cx="9144000" cy="4643280"/>
            <a:chOff x="0" y="285840"/>
            <a:chExt cx="9144000" cy="4643280"/>
          </a:xfrm>
        </p:grpSpPr>
        <p:sp>
          <p:nvSpPr>
            <p:cNvPr id="221" name="Прямоугольник 4"/>
            <p:cNvSpPr/>
            <p:nvPr/>
          </p:nvSpPr>
          <p:spPr>
            <a:xfrm>
              <a:off x="0" y="2571840"/>
              <a:ext cx="9144000" cy="235728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900" spc="-1" strike="noStrike">
                  <a:solidFill>
                    <a:srgbClr val="ffffff"/>
                  </a:solidFill>
                  <a:latin typeface="Garamond"/>
                </a:rPr>
                <a:t>Дякую за увагу!</a:t>
              </a:r>
              <a:endParaRPr b="0" lang="en-US" sz="7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8584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8576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94360" y="333360"/>
            <a:ext cx="812520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кількості справ та матеріалів, що знаходилися на розгляд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 судах у 2013 – 2014 рок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</a:t>
            </a:r>
            <a:r>
              <a:rPr b="0" i="1" lang="uk-UA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ез урахування даних АР Крим, м. Севастополя</a:t>
            </a: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356000" y="1781280"/>
            <a:ext cx="42879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біль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32000" y="2349360"/>
            <a:ext cx="396108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кількіс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   5 742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014 рік     4 264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 478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 до попереднього року на </a:t>
            </a:r>
            <a:r>
              <a:rPr b="1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,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696680" y="1722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804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067280" y="4710240"/>
            <a:ext cx="720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5513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6585840" y="479736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7889040" y="487836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62000" y="1197000"/>
            <a:ext cx="112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судд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643320" y="438120"/>
            <a:ext cx="7970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навантаження на 1 суддю за 2013 та 2014 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334200" y="1751040"/>
            <a:ext cx="2314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ідвищ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312200" y="1773360"/>
            <a:ext cx="3315600" cy="149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 на 1 судд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697 справ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2014 рік  553 справи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44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 та матеріал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 до попереднього року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480320" y="414972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704680" y="4719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4048920" y="46530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584320" y="25272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520680" y="464508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7744320" y="47196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8886960" y="6458040"/>
            <a:ext cx="22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1FB6-8854-47C2-A8A9-0B972531CE80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99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2202120" y="1484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571,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670800" y="1673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23,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95280" y="33336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бюджетних призначень судової системи Украї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 урахуванням АР Крим, м.</a:t>
            </a:r>
            <a:r>
              <a:rPr b="0" i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53160" y="14130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763520" y="1355760"/>
            <a:ext cx="380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меншення до попередньої редакції,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351240" y="16891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402360" y="22510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795280" y="1754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821200" y="2590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795280" y="41241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8916840" y="6492960"/>
            <a:ext cx="2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3456-896E-4592-AF12-D6A8F11D8E03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7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588520" cy="649944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9" descr=""/>
          <p:cNvPicPr/>
          <p:nvPr/>
        </p:nvPicPr>
        <p:blipFill>
          <a:blip r:embed="rId2"/>
          <a:stretch/>
        </p:blipFill>
        <p:spPr>
          <a:xfrm>
            <a:off x="4425840" y="2998800"/>
            <a:ext cx="4394160" cy="3457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5076720" y="255600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и та ТУ ДСА Украї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кової частини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913320" y="14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бюджет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53480" y="333360"/>
            <a:ext cx="7462440" cy="82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Зменшення видатків Державного бюджету України у 2014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ок 3 до Закону )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885672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0C7-CDFF-4D25-AA59-2754B51E6E68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07520" y="190800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25640" y="317520"/>
            <a:ext cx="7346520" cy="1008360"/>
          </a:xfrm>
          <a:prstGeom prst="rect">
            <a:avLst/>
          </a:prstGeom>
          <a:solidFill>
            <a:srgbClr val="fdeada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меншення бюджетних призначень судової сис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ідповідно до змін до Закону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ро Державний бюджет України на 2014 рік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758320" y="17715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8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6014160" y="436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145400" y="17226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201920" y="39211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9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314120" y="430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7288920" y="5127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,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299000" y="46911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87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152680" y="1521000"/>
            <a:ext cx="369648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з початку року 247,9 млн грн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терикова частина України  48,9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Р Крим, м. Севастополь 199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Шестиугольник 20"/>
          <p:cNvSpPr/>
          <p:nvPr/>
        </p:nvSpPr>
        <p:spPr>
          <a:xfrm>
            <a:off x="1222200" y="1521000"/>
            <a:ext cx="1570320" cy="457200"/>
          </a:xfrm>
          <a:prstGeom prst="hexagon">
            <a:avLst>
              <a:gd name="adj" fmla="val 25028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позиція Мінфіну на скорочення видатків</a:t>
            </a:r>
            <a:r>
              <a:rPr b="1" lang="uk-UA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220 </a:t>
            </a: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лн гр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Шестиугольник 21"/>
          <p:cNvSpPr/>
          <p:nvPr/>
        </p:nvSpPr>
        <p:spPr>
          <a:xfrm>
            <a:off x="6443640" y="3573360"/>
            <a:ext cx="1935360" cy="532080"/>
          </a:xfrm>
          <a:prstGeom prst="hexagon">
            <a:avLst>
              <a:gd name="adj" fmla="val 25057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СА України, як головного розпорядника бюджетних коштів, до розробки проекту закону  не залучалас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C9E8-B347-4EF2-B163-C02B5336523C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39640" y="5157720"/>
            <a:ext cx="5040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асигнувань            46 387,0 тис. гр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асигнува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пеляційні адміністративні суди)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387,0 тис. грн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748720" y="6597720"/>
            <a:ext cx="39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A951-7317-404F-9E33-CDBAE9FDB2CC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1238760" y="260280"/>
            <a:ext cx="71744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ові видатки спецфонду з урахуванн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адпланових надходжень за 2014 рі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8840" y="129852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547640" y="1317600"/>
            <a:ext cx="60487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призначень за рахунок понадпланових надходжень,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146640" y="2055960"/>
            <a:ext cx="2808360" cy="93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спеціальний фонд 1292,7 млн  грн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- Призначення                     889,2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онадпланові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дходження                     403,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                              45,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767240" y="1685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3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7226640" y="4365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2671560" y="2925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575600" y="25653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8772480" y="6597720"/>
            <a:ext cx="360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71B0-33C5-4D6E-845A-19DEEDC81DC8}" type="slidenum">
              <a:rPr b="0" lang="ru-RU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75800" cy="6572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398880" y="1197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059480" y="114480"/>
            <a:ext cx="676152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Приріст середньої заробітної плати працівників апаратів суд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судової системи України (без АР Крим, м. Севастопол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у 2014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405440" y="1743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629440" y="14241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4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853440" y="18972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50520" y="15098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6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6337800" y="15033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7598520" y="16700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246400" y="1036800"/>
            <a:ext cx="4917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на середня заробітна плата працівника апарату суду за 2014 рік - 3 729 грн,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 до встановленої законом - 1 121 грн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1910520" y="22683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,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317736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4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43412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6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9940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8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17668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8,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7622640" y="1292400"/>
            <a:ext cx="1102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, 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570720" y="6199200"/>
            <a:ext cx="26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16:33Z</dcterms:created>
  <dc:creator>chekryzheva</dc:creator>
  <dc:description/>
  <dc:language>en-US</dc:language>
  <cp:lastModifiedBy>ignatchenko</cp:lastModifiedBy>
  <cp:lastPrinted>2015-03-27T13:46:02Z</cp:lastPrinted>
  <dcterms:modified xsi:type="dcterms:W3CDTF">2015-08-17T14:27:51Z</dcterms:modified>
  <cp:revision>224</cp:revision>
  <dc:subject/>
  <dc:title>Презентация PowerPoint</dc:title>
</cp:coreProperties>
</file>